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9C6-E7CE-4A1D-991E-9233145B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787-0324-4D13-A9D1-FBCCCA92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B8F-3BA2-4080-96CD-6AA8D5CD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456-4B01-4A6E-A22E-61C4EF5F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90E2-5E89-4877-B944-C6F5176B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6CD-F3E4-4B0E-B87D-E168D349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B53-C04D-4E60-81BC-A9D223D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DD01-A441-4860-B476-03A1CB33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BAC-B3D3-499D-A55B-C093B2E1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E2D9-6891-466C-AD4B-C7CD0520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E713-564D-403B-B6F1-482BCC7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BC6-7880-471A-B901-567C69D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449B-8137-40F0-B3AC-A1EE95A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5FE-9B1B-468D-85E9-18AB333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31D6-118C-4C34-822B-99E238B3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FC1-19D2-4E61-B350-4E88D521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1934-9D12-4D95-8AF6-CFE7133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09A-0B33-4764-84A0-A0186D5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ADC-1901-4D9C-AB16-6406954D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EE9-3304-4667-8F44-DD1EE2B0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3F9-8111-4979-943B-549C44F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B4C-8742-4B7D-9EC4-A985865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7D5-A8FD-46C9-A6C0-53E2BDD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F36-38A4-4208-B237-AEEB83B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247-0412-400C-A331-3066B9FD5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7DE6-DFD4-458D-B971-59A06E3EE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image" Target="../media/image8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15200" y="2362320"/>
            <a:ext cx="1523880" cy="238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43200" y="2209680"/>
            <a:ext cx="25909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uther: C.S. Lew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71600" y="1143000"/>
            <a:ext cx="7010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he Chronicles of Narnia The Horse And His Bo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1625760" cy="2031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33920" y="3886200"/>
            <a:ext cx="17143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By: Luc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sta- A boy who was a prince but was took at a few weeks old and was being treated like a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e- A war horse from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in- Another war horse from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vis Tarkheen- A noble women who runs away because they want her to marry an old evil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Rabadash- A man who wants to marry queen Susan or else he will go to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hb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82" dir="7475537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e Rabadash goes to war against Archland because queen Susan refuses to marry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Mai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sta, Bree, Aravis, and Hwin are running away to Narnia to help queen Susan win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Mai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2040" y="1981080"/>
            <a:ext cx="7435800" cy="2286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ttle against Prince Rabadash and Narnia helped win the war with Ar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’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you should not battle because you are mad about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64008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S. Lewis wrote 7 books about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Magician’s Neph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Lion, The Witch, and the Ward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Horse and His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e Casp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oyage of the Dawn T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liver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Last B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133344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333800" cy="2031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67480" y="2057400"/>
            <a:ext cx="124488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467480" y="4114800"/>
            <a:ext cx="132084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95280" y="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95880" y="4114800"/>
            <a:ext cx="1371600" cy="20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5748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ertainista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aeedbookbank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nryzecher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awards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angelicalbibl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-scree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drive.library.bilkent.edu.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sness.wordpres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ingol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8:42Z</dcterms:created>
  <dc:creator>D83  User</dc:creator>
  <dc:description/>
  <dc:language>en-US</dc:language>
  <cp:lastModifiedBy>D83  User</cp:lastModifiedBy>
  <dcterms:modified xsi:type="dcterms:W3CDTF">2010-12-09T14:59:07Z</dcterms:modified>
  <cp:revision>18</cp:revision>
  <dc:subject/>
  <dc:title>PowerPoint Presentation</dc:title>
</cp:coreProperties>
</file>